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903D-2CFF-4D84-8CAD-ADB9B1AB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B17-89D5-4705-BE60-452786AA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C4FA-0C85-43BC-AEA9-811D926D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FC3-FA4B-4655-A2BE-AC15DA23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EF0-3FF9-4263-A489-5A11E6D0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6025-EED7-4903-A4F9-27FEC7C8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A5D-8F73-498F-9F8F-B94711E4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99A1-DE05-42A4-AAAF-68FCD55F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EE19-7E4A-4E25-BC1E-77111FB8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D4C8-F2BC-467B-8FEC-0D31D03D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7A52-642F-4477-8C31-62D82D0D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086A-B0D8-4075-9B0B-FDF7FAE4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42F2-CD94-4646-AC7C-7482712CEFC3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8"/>
          <p:cNvSpPr/>
          <p:nvPr/>
        </p:nvSpPr>
        <p:spPr>
          <a:xfrm>
            <a:off x="993600" y="2482920"/>
            <a:ext cx="4365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39"/>
          <p:cNvSpPr/>
          <p:nvPr/>
        </p:nvSpPr>
        <p:spPr>
          <a:xfrm>
            <a:off x="993600" y="3195720"/>
            <a:ext cx="45561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ash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993600" y="484200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6095880" y="0"/>
            <a:ext cx="609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5"/>
          <p:cNvSpPr/>
          <p:nvPr/>
        </p:nvSpPr>
        <p:spPr>
          <a:xfrm>
            <a:off x="851040" y="1168560"/>
            <a:ext cx="8432640" cy="5054400"/>
          </a:xfrm>
          <a:prstGeom prst="rect">
            <a:avLst/>
          </a:prstGeom>
          <a:solidFill>
            <a:srgbClr val="4862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1628640" y="3798720"/>
            <a:ext cx="3873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when an unknown prpeinter took a galley of type and scrambled it to make a ty specimen book. It has survived not only fiv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1628640" y="2556000"/>
            <a:ext cx="4338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Hell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1628640" y="3032280"/>
            <a:ext cx="5216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1628640" y="4722840"/>
            <a:ext cx="3873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16"/>
          <p:cNvSpPr/>
          <p:nvPr/>
        </p:nvSpPr>
        <p:spPr>
          <a:xfrm>
            <a:off x="7445520" y="153360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174840" y="0"/>
            <a:ext cx="9017280" cy="55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6"/>
          <p:cNvSpPr/>
          <p:nvPr/>
        </p:nvSpPr>
        <p:spPr>
          <a:xfrm>
            <a:off x="7051680" y="1906560"/>
            <a:ext cx="4221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elci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7"/>
          <p:cNvSpPr/>
          <p:nvPr/>
        </p:nvSpPr>
        <p:spPr>
          <a:xfrm>
            <a:off x="7051680" y="37148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28"/>
          <p:cNvSpPr/>
          <p:nvPr/>
        </p:nvSpPr>
        <p:spPr>
          <a:xfrm>
            <a:off x="7051680" y="46213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9"/>
          <p:cNvSpPr/>
          <p:nvPr/>
        </p:nvSpPr>
        <p:spPr>
          <a:xfrm>
            <a:off x="7051680" y="2435400"/>
            <a:ext cx="42210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ompa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0"/>
          <p:cNvSpPr/>
          <p:nvPr/>
        </p:nvSpPr>
        <p:spPr>
          <a:xfrm>
            <a:off x="7051680" y="34369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735000" y="3619440"/>
            <a:ext cx="1662120" cy="26589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1220400" y="3619440"/>
            <a:ext cx="236052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15"/>
          <p:cNvSpPr/>
          <p:nvPr/>
        </p:nvSpPr>
        <p:spPr>
          <a:xfrm>
            <a:off x="4813200" y="-38160"/>
            <a:ext cx="5372280" cy="5054760"/>
          </a:xfrm>
          <a:prstGeom prst="rect">
            <a:avLst/>
          </a:prstGeom>
          <a:solidFill>
            <a:srgbClr val="697d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24"/>
          <p:cNvSpPr/>
          <p:nvPr/>
        </p:nvSpPr>
        <p:spPr>
          <a:xfrm>
            <a:off x="879480" y="396864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0"/>
          <p:cNvSpPr/>
          <p:nvPr/>
        </p:nvSpPr>
        <p:spPr>
          <a:xfrm>
            <a:off x="879480" y="487512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ctangle 31"/>
          <p:cNvSpPr/>
          <p:nvPr/>
        </p:nvSpPr>
        <p:spPr>
          <a:xfrm>
            <a:off x="879480" y="35305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Founder Celci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35"/>
          <p:cNvSpPr/>
          <p:nvPr/>
        </p:nvSpPr>
        <p:spPr>
          <a:xfrm>
            <a:off x="7737480" y="173340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Jen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8"/>
          <p:cNvSpPr/>
          <p:nvPr/>
        </p:nvSpPr>
        <p:spPr>
          <a:xfrm>
            <a:off x="7737480" y="226224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lakovi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Group 23"/>
          <p:cNvGrpSpPr/>
          <p:nvPr/>
        </p:nvGrpSpPr>
        <p:grpSpPr>
          <a:xfrm>
            <a:off x="7737480" y="4156200"/>
            <a:ext cx="1442880" cy="409320"/>
            <a:chOff x="7737480" y="4156200"/>
            <a:chExt cx="1442880" cy="409320"/>
          </a:xfrm>
        </p:grpSpPr>
        <p:sp>
          <p:nvSpPr>
            <p:cNvPr id="371" name="Shape 5019"/>
            <p:cNvSpPr/>
            <p:nvPr/>
          </p:nvSpPr>
          <p:spPr>
            <a:xfrm>
              <a:off x="8367120" y="4275360"/>
              <a:ext cx="183600" cy="1836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Shape 5020"/>
            <p:cNvSpPr/>
            <p:nvPr/>
          </p:nvSpPr>
          <p:spPr>
            <a:xfrm>
              <a:off x="7838640" y="429012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Shape 5033"/>
            <p:cNvSpPr/>
            <p:nvPr/>
          </p:nvSpPr>
          <p:spPr>
            <a:xfrm>
              <a:off x="8902080" y="427500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val 45"/>
            <p:cNvSpPr/>
            <p:nvPr/>
          </p:nvSpPr>
          <p:spPr>
            <a:xfrm>
              <a:off x="773748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Oval 46"/>
            <p:cNvSpPr/>
            <p:nvPr/>
          </p:nvSpPr>
          <p:spPr>
            <a:xfrm>
              <a:off x="8258760" y="41688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Oval 47"/>
            <p:cNvSpPr/>
            <p:nvPr/>
          </p:nvSpPr>
          <p:spPr>
            <a:xfrm>
              <a:off x="8783280" y="4156200"/>
              <a:ext cx="397080" cy="3967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7" name="Rectangle 48"/>
          <p:cNvSpPr/>
          <p:nvPr/>
        </p:nvSpPr>
        <p:spPr>
          <a:xfrm>
            <a:off x="7737480" y="3246480"/>
            <a:ext cx="210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4813200" y="992160"/>
            <a:ext cx="256536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cf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12"/>
          <p:cNvSpPr/>
          <p:nvPr/>
        </p:nvSpPr>
        <p:spPr>
          <a:xfrm>
            <a:off x="5867280" y="0"/>
            <a:ext cx="2768760" cy="685800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1349280" y="21477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Crea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0"/>
          <p:cNvSpPr/>
          <p:nvPr/>
        </p:nvSpPr>
        <p:spPr>
          <a:xfrm>
            <a:off x="1349280" y="26766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1349280" y="318456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e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1349280" y="44276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1349280" y="533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9105840" y="206676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Jessica Mil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1349280" y="4176720"/>
            <a:ext cx="1737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Write Sometitl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7" name="Group 15"/>
          <p:cNvGrpSpPr/>
          <p:nvPr/>
        </p:nvGrpSpPr>
        <p:grpSpPr>
          <a:xfrm>
            <a:off x="9105840" y="2419200"/>
            <a:ext cx="1443240" cy="409680"/>
            <a:chOff x="9105840" y="2419200"/>
            <a:chExt cx="1443240" cy="409680"/>
          </a:xfrm>
        </p:grpSpPr>
        <p:sp>
          <p:nvSpPr>
            <p:cNvPr id="388" name="Shape 5019"/>
            <p:cNvSpPr/>
            <p:nvPr/>
          </p:nvSpPr>
          <p:spPr>
            <a:xfrm>
              <a:off x="9735480" y="2538720"/>
              <a:ext cx="183960" cy="18360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3600"/>
                <a:gd name="textAreaBottom" fmla="*/ 183960 h 1836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Shape 5020"/>
            <p:cNvSpPr/>
            <p:nvPr/>
          </p:nvSpPr>
          <p:spPr>
            <a:xfrm>
              <a:off x="9207000" y="2553480"/>
              <a:ext cx="188640" cy="15408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Shape 5033"/>
            <p:cNvSpPr/>
            <p:nvPr/>
          </p:nvSpPr>
          <p:spPr>
            <a:xfrm>
              <a:off x="10270440" y="2538360"/>
              <a:ext cx="159840" cy="158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14"/>
            <p:cNvSpPr/>
            <p:nvPr/>
          </p:nvSpPr>
          <p:spPr>
            <a:xfrm>
              <a:off x="910584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Oval 32"/>
            <p:cNvSpPr/>
            <p:nvPr/>
          </p:nvSpPr>
          <p:spPr>
            <a:xfrm>
              <a:off x="9627480" y="24318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Oval 33"/>
            <p:cNvSpPr/>
            <p:nvPr/>
          </p:nvSpPr>
          <p:spPr>
            <a:xfrm>
              <a:off x="10152000" y="2419200"/>
              <a:ext cx="397080" cy="39708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Rectangle 35"/>
          <p:cNvSpPr/>
          <p:nvPr/>
        </p:nvSpPr>
        <p:spPr>
          <a:xfrm>
            <a:off x="9105840" y="4540320"/>
            <a:ext cx="1736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Lin Nakagam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36"/>
          <p:cNvGrpSpPr/>
          <p:nvPr/>
        </p:nvGrpSpPr>
        <p:grpSpPr>
          <a:xfrm>
            <a:off x="9105840" y="4892760"/>
            <a:ext cx="1443240" cy="411120"/>
            <a:chOff x="9105840" y="4892760"/>
            <a:chExt cx="1443240" cy="411120"/>
          </a:xfrm>
        </p:grpSpPr>
        <p:sp>
          <p:nvSpPr>
            <p:cNvPr id="396" name="Shape 5019"/>
            <p:cNvSpPr/>
            <p:nvPr/>
          </p:nvSpPr>
          <p:spPr>
            <a:xfrm>
              <a:off x="9735480" y="5012640"/>
              <a:ext cx="183960" cy="1843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4433" y="119802"/>
                  </a:moveTo>
                  <a:lnTo>
                    <a:pt x="104433" y="119802"/>
                  </a:lnTo>
                  <a:cubicBezTo>
                    <a:pt x="15369" y="119802"/>
                    <a:pt x="15369" y="119802"/>
                    <a:pt x="15369" y="119802"/>
                  </a:cubicBezTo>
                  <a:cubicBezTo>
                    <a:pt x="7093" y="119802"/>
                    <a:pt x="0" y="112709"/>
                    <a:pt x="0" y="104433"/>
                  </a:cubicBezTo>
                  <a:cubicBezTo>
                    <a:pt x="0" y="15369"/>
                    <a:pt x="0" y="15369"/>
                    <a:pt x="0" y="15369"/>
                  </a:cubicBezTo>
                  <a:cubicBezTo>
                    <a:pt x="0" y="6896"/>
                    <a:pt x="7093" y="0"/>
                    <a:pt x="15369" y="0"/>
                  </a:cubicBezTo>
                  <a:cubicBezTo>
                    <a:pt x="104433" y="0"/>
                    <a:pt x="104433" y="0"/>
                    <a:pt x="104433" y="0"/>
                  </a:cubicBezTo>
                  <a:cubicBezTo>
                    <a:pt x="112906" y="0"/>
                    <a:pt x="119802" y="6896"/>
                    <a:pt x="119802" y="15369"/>
                  </a:cubicBezTo>
                  <a:cubicBezTo>
                    <a:pt x="119802" y="104433"/>
                    <a:pt x="119802" y="104433"/>
                    <a:pt x="119802" y="104433"/>
                  </a:cubicBezTo>
                  <a:cubicBezTo>
                    <a:pt x="119802" y="112709"/>
                    <a:pt x="112906" y="119802"/>
                    <a:pt x="104433" y="119802"/>
                  </a:cubicBezTo>
                  <a:close/>
                  <a:moveTo>
                    <a:pt x="59901" y="36256"/>
                  </a:moveTo>
                  <a:lnTo>
                    <a:pt x="59901" y="36256"/>
                  </a:lnTo>
                  <a:cubicBezTo>
                    <a:pt x="50049" y="36256"/>
                    <a:pt x="43152" y="41773"/>
                    <a:pt x="39014" y="50049"/>
                  </a:cubicBezTo>
                  <a:lnTo>
                    <a:pt x="39014" y="50049"/>
                  </a:lnTo>
                  <a:lnTo>
                    <a:pt x="39014" y="50049"/>
                  </a:lnTo>
                  <a:cubicBezTo>
                    <a:pt x="39014" y="51428"/>
                    <a:pt x="39014" y="51428"/>
                    <a:pt x="37635" y="51428"/>
                  </a:cubicBezTo>
                  <a:lnTo>
                    <a:pt x="37635" y="53004"/>
                  </a:lnTo>
                  <a:lnTo>
                    <a:pt x="37635" y="54384"/>
                  </a:lnTo>
                  <a:cubicBezTo>
                    <a:pt x="37635" y="54384"/>
                    <a:pt x="37635" y="54384"/>
                    <a:pt x="37635" y="55763"/>
                  </a:cubicBezTo>
                  <a:cubicBezTo>
                    <a:pt x="37635" y="55763"/>
                    <a:pt x="37635" y="55763"/>
                    <a:pt x="37635" y="57142"/>
                  </a:cubicBezTo>
                  <a:lnTo>
                    <a:pt x="37635" y="57142"/>
                  </a:lnTo>
                  <a:cubicBezTo>
                    <a:pt x="37635" y="58522"/>
                    <a:pt x="36256" y="58522"/>
                    <a:pt x="36256" y="59901"/>
                  </a:cubicBezTo>
                  <a:cubicBezTo>
                    <a:pt x="36256" y="72315"/>
                    <a:pt x="47290" y="83546"/>
                    <a:pt x="59901" y="83546"/>
                  </a:cubicBezTo>
                  <a:cubicBezTo>
                    <a:pt x="72512" y="83546"/>
                    <a:pt x="83546" y="72315"/>
                    <a:pt x="83546" y="59901"/>
                  </a:cubicBezTo>
                  <a:cubicBezTo>
                    <a:pt x="83546" y="58522"/>
                    <a:pt x="82167" y="58522"/>
                    <a:pt x="82167" y="57142"/>
                  </a:cubicBezTo>
                  <a:lnTo>
                    <a:pt x="82167" y="57142"/>
                  </a:lnTo>
                  <a:cubicBezTo>
                    <a:pt x="82167" y="55763"/>
                    <a:pt x="82167" y="55763"/>
                    <a:pt x="82167" y="55763"/>
                  </a:cubicBezTo>
                  <a:cubicBezTo>
                    <a:pt x="82167" y="54384"/>
                    <a:pt x="82167" y="54384"/>
                    <a:pt x="82167" y="54384"/>
                  </a:cubicBezTo>
                  <a:lnTo>
                    <a:pt x="82167" y="53004"/>
                  </a:lnTo>
                  <a:lnTo>
                    <a:pt x="82167" y="51428"/>
                  </a:lnTo>
                  <a:cubicBezTo>
                    <a:pt x="80788" y="51428"/>
                    <a:pt x="80788" y="51428"/>
                    <a:pt x="80788" y="50049"/>
                  </a:cubicBezTo>
                  <a:lnTo>
                    <a:pt x="80788" y="50049"/>
                  </a:lnTo>
                  <a:lnTo>
                    <a:pt x="80788" y="50049"/>
                  </a:lnTo>
                  <a:cubicBezTo>
                    <a:pt x="76650" y="41773"/>
                    <a:pt x="69753" y="36256"/>
                    <a:pt x="59901" y="36256"/>
                  </a:cubicBezTo>
                  <a:close/>
                  <a:moveTo>
                    <a:pt x="105812" y="19507"/>
                  </a:moveTo>
                  <a:lnTo>
                    <a:pt x="105812" y="19507"/>
                  </a:lnTo>
                  <a:cubicBezTo>
                    <a:pt x="105812" y="16748"/>
                    <a:pt x="103054" y="13990"/>
                    <a:pt x="100295" y="13990"/>
                  </a:cubicBezTo>
                  <a:cubicBezTo>
                    <a:pt x="87684" y="13990"/>
                    <a:pt x="87684" y="13990"/>
                    <a:pt x="87684" y="13990"/>
                  </a:cubicBezTo>
                  <a:cubicBezTo>
                    <a:pt x="84926" y="13990"/>
                    <a:pt x="82167" y="16748"/>
                    <a:pt x="82167" y="19507"/>
                  </a:cubicBezTo>
                  <a:cubicBezTo>
                    <a:pt x="82167" y="31921"/>
                    <a:pt x="82167" y="31921"/>
                    <a:pt x="82167" y="31921"/>
                  </a:cubicBezTo>
                  <a:cubicBezTo>
                    <a:pt x="82167" y="34876"/>
                    <a:pt x="84926" y="37635"/>
                    <a:pt x="87684" y="37635"/>
                  </a:cubicBezTo>
                  <a:cubicBezTo>
                    <a:pt x="100295" y="37635"/>
                    <a:pt x="100295" y="37635"/>
                    <a:pt x="100295" y="37635"/>
                  </a:cubicBezTo>
                  <a:cubicBezTo>
                    <a:pt x="103054" y="37635"/>
                    <a:pt x="105812" y="34876"/>
                    <a:pt x="105812" y="31921"/>
                  </a:cubicBezTo>
                  <a:lnTo>
                    <a:pt x="105812" y="19507"/>
                  </a:lnTo>
                  <a:close/>
                  <a:moveTo>
                    <a:pt x="105812" y="50049"/>
                  </a:moveTo>
                  <a:lnTo>
                    <a:pt x="105812" y="50049"/>
                  </a:lnTo>
                  <a:cubicBezTo>
                    <a:pt x="94778" y="50049"/>
                    <a:pt x="94778" y="50049"/>
                    <a:pt x="94778" y="50049"/>
                  </a:cubicBezTo>
                  <a:cubicBezTo>
                    <a:pt x="96157" y="53004"/>
                    <a:pt x="96157" y="57142"/>
                    <a:pt x="96157" y="59901"/>
                  </a:cubicBezTo>
                  <a:cubicBezTo>
                    <a:pt x="96157" y="79408"/>
                    <a:pt x="79408" y="96157"/>
                    <a:pt x="59901" y="96157"/>
                  </a:cubicBezTo>
                  <a:cubicBezTo>
                    <a:pt x="40394" y="96157"/>
                    <a:pt x="23645" y="79408"/>
                    <a:pt x="23645" y="59901"/>
                  </a:cubicBezTo>
                  <a:cubicBezTo>
                    <a:pt x="23645" y="57142"/>
                    <a:pt x="23645" y="53004"/>
                    <a:pt x="25024" y="50049"/>
                  </a:cubicBezTo>
                  <a:cubicBezTo>
                    <a:pt x="13990" y="50049"/>
                    <a:pt x="13990" y="50049"/>
                    <a:pt x="13990" y="50049"/>
                  </a:cubicBezTo>
                  <a:cubicBezTo>
                    <a:pt x="13990" y="100295"/>
                    <a:pt x="13990" y="100295"/>
                    <a:pt x="13990" y="100295"/>
                  </a:cubicBezTo>
                  <a:cubicBezTo>
                    <a:pt x="13990" y="103054"/>
                    <a:pt x="16748" y="105812"/>
                    <a:pt x="19507" y="105812"/>
                  </a:cubicBezTo>
                  <a:cubicBezTo>
                    <a:pt x="100295" y="105812"/>
                    <a:pt x="100295" y="105812"/>
                    <a:pt x="100295" y="105812"/>
                  </a:cubicBezTo>
                  <a:cubicBezTo>
                    <a:pt x="103054" y="105812"/>
                    <a:pt x="105812" y="103054"/>
                    <a:pt x="105812" y="100295"/>
                  </a:cubicBezTo>
                  <a:lnTo>
                    <a:pt x="105812" y="50049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Shape 5020"/>
            <p:cNvSpPr/>
            <p:nvPr/>
          </p:nvSpPr>
          <p:spPr>
            <a:xfrm>
              <a:off x="9207000" y="5027400"/>
              <a:ext cx="188640" cy="1548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81727" y="0"/>
                  </a:moveTo>
                  <a:lnTo>
                    <a:pt x="81727" y="0"/>
                  </a:lnTo>
                  <a:cubicBezTo>
                    <a:pt x="91495" y="0"/>
                    <a:pt x="95880" y="5322"/>
                    <a:pt x="101461" y="10403"/>
                  </a:cubicBezTo>
                  <a:cubicBezTo>
                    <a:pt x="105647" y="10403"/>
                    <a:pt x="111229" y="7016"/>
                    <a:pt x="114019" y="5322"/>
                  </a:cubicBezTo>
                  <a:cubicBezTo>
                    <a:pt x="115614" y="3629"/>
                    <a:pt x="115614" y="3629"/>
                    <a:pt x="117009" y="3629"/>
                  </a:cubicBezTo>
                  <a:cubicBezTo>
                    <a:pt x="115614" y="8709"/>
                    <a:pt x="112624" y="13790"/>
                    <a:pt x="108438" y="17177"/>
                  </a:cubicBezTo>
                  <a:cubicBezTo>
                    <a:pt x="108438" y="17177"/>
                    <a:pt x="107043" y="18870"/>
                    <a:pt x="105647" y="18870"/>
                  </a:cubicBezTo>
                  <a:lnTo>
                    <a:pt x="105647" y="18870"/>
                  </a:lnTo>
                  <a:cubicBezTo>
                    <a:pt x="111229" y="18870"/>
                    <a:pt x="115614" y="15483"/>
                    <a:pt x="119800" y="15483"/>
                  </a:cubicBezTo>
                  <a:lnTo>
                    <a:pt x="119800" y="15483"/>
                  </a:lnTo>
                  <a:cubicBezTo>
                    <a:pt x="118405" y="18870"/>
                    <a:pt x="115614" y="23951"/>
                    <a:pt x="111229" y="25645"/>
                  </a:cubicBezTo>
                  <a:cubicBezTo>
                    <a:pt x="109833" y="27338"/>
                    <a:pt x="109833" y="29274"/>
                    <a:pt x="108438" y="30967"/>
                  </a:cubicBezTo>
                  <a:cubicBezTo>
                    <a:pt x="108438" y="37741"/>
                    <a:pt x="108438" y="42822"/>
                    <a:pt x="107043" y="49596"/>
                  </a:cubicBezTo>
                  <a:cubicBezTo>
                    <a:pt x="100066" y="82258"/>
                    <a:pt x="84518" y="106209"/>
                    <a:pt x="59202" y="116370"/>
                  </a:cubicBezTo>
                  <a:cubicBezTo>
                    <a:pt x="49235" y="119758"/>
                    <a:pt x="33887" y="119758"/>
                    <a:pt x="23920" y="118064"/>
                  </a:cubicBezTo>
                  <a:cubicBezTo>
                    <a:pt x="18338" y="116370"/>
                    <a:pt x="14152" y="114677"/>
                    <a:pt x="8372" y="111290"/>
                  </a:cubicBezTo>
                  <a:cubicBezTo>
                    <a:pt x="6976" y="109596"/>
                    <a:pt x="4186" y="109596"/>
                    <a:pt x="2790" y="107903"/>
                  </a:cubicBezTo>
                  <a:cubicBezTo>
                    <a:pt x="1395" y="106209"/>
                    <a:pt x="1395" y="106209"/>
                    <a:pt x="0" y="106209"/>
                  </a:cubicBezTo>
                  <a:cubicBezTo>
                    <a:pt x="2790" y="106209"/>
                    <a:pt x="5581" y="106209"/>
                    <a:pt x="8372" y="106209"/>
                  </a:cubicBezTo>
                  <a:cubicBezTo>
                    <a:pt x="9966" y="106209"/>
                    <a:pt x="12757" y="106209"/>
                    <a:pt x="15548" y="104516"/>
                  </a:cubicBezTo>
                  <a:cubicBezTo>
                    <a:pt x="21129" y="102580"/>
                    <a:pt x="25315" y="100887"/>
                    <a:pt x="29501" y="99193"/>
                  </a:cubicBezTo>
                  <a:cubicBezTo>
                    <a:pt x="32491" y="97500"/>
                    <a:pt x="35282" y="95806"/>
                    <a:pt x="36677" y="92419"/>
                  </a:cubicBezTo>
                  <a:cubicBezTo>
                    <a:pt x="33887" y="92419"/>
                    <a:pt x="31096" y="92419"/>
                    <a:pt x="29501" y="92419"/>
                  </a:cubicBezTo>
                  <a:cubicBezTo>
                    <a:pt x="21129" y="89032"/>
                    <a:pt x="16943" y="82258"/>
                    <a:pt x="14152" y="71854"/>
                  </a:cubicBezTo>
                  <a:cubicBezTo>
                    <a:pt x="15548" y="73548"/>
                    <a:pt x="22524" y="73548"/>
                    <a:pt x="23920" y="71854"/>
                  </a:cubicBezTo>
                  <a:cubicBezTo>
                    <a:pt x="21129" y="71854"/>
                    <a:pt x="18338" y="70161"/>
                    <a:pt x="16943" y="68467"/>
                  </a:cubicBezTo>
                  <a:cubicBezTo>
                    <a:pt x="9966" y="63387"/>
                    <a:pt x="4186" y="54919"/>
                    <a:pt x="4186" y="42822"/>
                  </a:cubicBezTo>
                  <a:cubicBezTo>
                    <a:pt x="5581" y="42822"/>
                    <a:pt x="6976" y="42822"/>
                    <a:pt x="6976" y="44516"/>
                  </a:cubicBezTo>
                  <a:cubicBezTo>
                    <a:pt x="8372" y="44516"/>
                    <a:pt x="9966" y="44516"/>
                    <a:pt x="12757" y="46209"/>
                  </a:cubicBezTo>
                  <a:lnTo>
                    <a:pt x="15548" y="46209"/>
                  </a:lnTo>
                  <a:lnTo>
                    <a:pt x="15548" y="46209"/>
                  </a:lnTo>
                  <a:cubicBezTo>
                    <a:pt x="14152" y="44516"/>
                    <a:pt x="12757" y="42822"/>
                    <a:pt x="11362" y="41129"/>
                  </a:cubicBezTo>
                  <a:cubicBezTo>
                    <a:pt x="6976" y="34354"/>
                    <a:pt x="2790" y="25645"/>
                    <a:pt x="5581" y="13790"/>
                  </a:cubicBezTo>
                  <a:cubicBezTo>
                    <a:pt x="5581" y="10403"/>
                    <a:pt x="6976" y="8709"/>
                    <a:pt x="8372" y="7016"/>
                  </a:cubicBezTo>
                  <a:lnTo>
                    <a:pt x="8372" y="7016"/>
                  </a:lnTo>
                  <a:cubicBezTo>
                    <a:pt x="8372" y="7016"/>
                    <a:pt x="9966" y="8709"/>
                    <a:pt x="11362" y="8709"/>
                  </a:cubicBezTo>
                  <a:cubicBezTo>
                    <a:pt x="12757" y="12096"/>
                    <a:pt x="15548" y="15483"/>
                    <a:pt x="18338" y="17177"/>
                  </a:cubicBezTo>
                  <a:cubicBezTo>
                    <a:pt x="26710" y="25645"/>
                    <a:pt x="35282" y="30967"/>
                    <a:pt x="47840" y="36048"/>
                  </a:cubicBezTo>
                  <a:cubicBezTo>
                    <a:pt x="52026" y="36048"/>
                    <a:pt x="55016" y="37741"/>
                    <a:pt x="59202" y="37741"/>
                  </a:cubicBezTo>
                  <a:cubicBezTo>
                    <a:pt x="57807" y="32661"/>
                    <a:pt x="57807" y="27338"/>
                    <a:pt x="59202" y="23951"/>
                  </a:cubicBezTo>
                  <a:cubicBezTo>
                    <a:pt x="61993" y="13790"/>
                    <a:pt x="66179" y="7016"/>
                    <a:pt x="73355" y="3629"/>
                  </a:cubicBezTo>
                  <a:cubicBezTo>
                    <a:pt x="74750" y="1935"/>
                    <a:pt x="77541" y="1935"/>
                    <a:pt x="78936" y="1935"/>
                  </a:cubicBezTo>
                  <a:cubicBezTo>
                    <a:pt x="80332" y="1935"/>
                    <a:pt x="80332" y="0"/>
                    <a:pt x="81727" y="0"/>
                  </a:cubicBez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Shape 5033"/>
            <p:cNvSpPr/>
            <p:nvPr/>
          </p:nvSpPr>
          <p:spPr>
            <a:xfrm>
              <a:off x="10270440" y="5012280"/>
              <a:ext cx="159840" cy="15912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9120"/>
                <a:gd name="textAreaBottom" fmla="*/ 159480 h 159120"/>
              </a:gdLst>
              <a:ahLst/>
              <a:rect l="textAreaLeft" t="textAreaTop" r="textAreaRight" b="textAreaBottom"/>
              <a:pathLst>
                <a:path w="120000" h="120000">
                  <a:moveTo>
                    <a:pt x="109833" y="119800"/>
                  </a:moveTo>
                  <a:lnTo>
                    <a:pt x="109833" y="119800"/>
                  </a:lnTo>
                  <a:cubicBezTo>
                    <a:pt x="8372" y="119800"/>
                    <a:pt x="8372" y="119800"/>
                    <a:pt x="8372" y="119800"/>
                  </a:cubicBezTo>
                  <a:cubicBezTo>
                    <a:pt x="4186" y="119800"/>
                    <a:pt x="0" y="117004"/>
                    <a:pt x="0" y="111414"/>
                  </a:cubicBezTo>
                  <a:cubicBezTo>
                    <a:pt x="0" y="9783"/>
                    <a:pt x="0" y="9783"/>
                    <a:pt x="0" y="9783"/>
                  </a:cubicBezTo>
                  <a:cubicBezTo>
                    <a:pt x="0" y="4193"/>
                    <a:pt x="4186" y="0"/>
                    <a:pt x="8372" y="0"/>
                  </a:cubicBezTo>
                  <a:cubicBezTo>
                    <a:pt x="109833" y="0"/>
                    <a:pt x="109833" y="0"/>
                    <a:pt x="109833" y="0"/>
                  </a:cubicBezTo>
                  <a:cubicBezTo>
                    <a:pt x="115614" y="0"/>
                    <a:pt x="119800" y="4193"/>
                    <a:pt x="119800" y="9783"/>
                  </a:cubicBezTo>
                  <a:cubicBezTo>
                    <a:pt x="119800" y="111414"/>
                    <a:pt x="119800" y="111414"/>
                    <a:pt x="119800" y="111414"/>
                  </a:cubicBezTo>
                  <a:cubicBezTo>
                    <a:pt x="119800" y="117004"/>
                    <a:pt x="115614" y="119800"/>
                    <a:pt x="109833" y="119800"/>
                  </a:cubicBezTo>
                  <a:close/>
                  <a:moveTo>
                    <a:pt x="50830" y="22562"/>
                  </a:moveTo>
                  <a:lnTo>
                    <a:pt x="50830" y="22562"/>
                  </a:lnTo>
                  <a:cubicBezTo>
                    <a:pt x="45049" y="22562"/>
                    <a:pt x="39468" y="23960"/>
                    <a:pt x="36677" y="25357"/>
                  </a:cubicBezTo>
                  <a:cubicBezTo>
                    <a:pt x="32491" y="28153"/>
                    <a:pt x="29501" y="30948"/>
                    <a:pt x="28106" y="33743"/>
                  </a:cubicBezTo>
                  <a:cubicBezTo>
                    <a:pt x="28106" y="36738"/>
                    <a:pt x="26710" y="39534"/>
                    <a:pt x="26710" y="45124"/>
                  </a:cubicBezTo>
                  <a:cubicBezTo>
                    <a:pt x="26710" y="50715"/>
                    <a:pt x="26710" y="50715"/>
                    <a:pt x="26710" y="50715"/>
                  </a:cubicBezTo>
                  <a:cubicBezTo>
                    <a:pt x="18338" y="50715"/>
                    <a:pt x="18338" y="50715"/>
                    <a:pt x="18338" y="50715"/>
                  </a:cubicBezTo>
                  <a:cubicBezTo>
                    <a:pt x="18338" y="64891"/>
                    <a:pt x="18338" y="64891"/>
                    <a:pt x="18338" y="64891"/>
                  </a:cubicBezTo>
                  <a:cubicBezTo>
                    <a:pt x="26710" y="64891"/>
                    <a:pt x="26710" y="64891"/>
                    <a:pt x="26710" y="64891"/>
                  </a:cubicBezTo>
                  <a:cubicBezTo>
                    <a:pt x="26710" y="111414"/>
                    <a:pt x="26710" y="111414"/>
                    <a:pt x="26710" y="111414"/>
                  </a:cubicBezTo>
                  <a:cubicBezTo>
                    <a:pt x="46445" y="111414"/>
                    <a:pt x="46445" y="111414"/>
                    <a:pt x="46445" y="111414"/>
                  </a:cubicBezTo>
                  <a:cubicBezTo>
                    <a:pt x="46445" y="64891"/>
                    <a:pt x="46445" y="64891"/>
                    <a:pt x="46445" y="64891"/>
                  </a:cubicBezTo>
                  <a:cubicBezTo>
                    <a:pt x="57807" y="64891"/>
                    <a:pt x="57807" y="64891"/>
                    <a:pt x="57807" y="64891"/>
                  </a:cubicBezTo>
                  <a:cubicBezTo>
                    <a:pt x="61993" y="50715"/>
                    <a:pt x="61993" y="50715"/>
                    <a:pt x="61993" y="50715"/>
                  </a:cubicBezTo>
                  <a:cubicBezTo>
                    <a:pt x="46445" y="50715"/>
                    <a:pt x="46445" y="50715"/>
                    <a:pt x="46445" y="50715"/>
                  </a:cubicBezTo>
                  <a:cubicBezTo>
                    <a:pt x="46445" y="45124"/>
                    <a:pt x="46445" y="45124"/>
                    <a:pt x="46445" y="45124"/>
                  </a:cubicBezTo>
                  <a:cubicBezTo>
                    <a:pt x="46445" y="42329"/>
                    <a:pt x="46445" y="39534"/>
                    <a:pt x="47840" y="38136"/>
                  </a:cubicBezTo>
                  <a:cubicBezTo>
                    <a:pt x="49435" y="38136"/>
                    <a:pt x="52225" y="36738"/>
                    <a:pt x="55016" y="36738"/>
                  </a:cubicBezTo>
                  <a:cubicBezTo>
                    <a:pt x="57807" y="36738"/>
                    <a:pt x="59202" y="38136"/>
                    <a:pt x="61993" y="39534"/>
                  </a:cubicBezTo>
                  <a:cubicBezTo>
                    <a:pt x="66179" y="26755"/>
                    <a:pt x="66179" y="26755"/>
                    <a:pt x="66179" y="26755"/>
                  </a:cubicBezTo>
                  <a:cubicBezTo>
                    <a:pt x="60598" y="25357"/>
                    <a:pt x="56411" y="22562"/>
                    <a:pt x="50830" y="22562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360" rIns="4536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Oval 40"/>
            <p:cNvSpPr/>
            <p:nvPr/>
          </p:nvSpPr>
          <p:spPr>
            <a:xfrm>
              <a:off x="910584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Oval 41"/>
            <p:cNvSpPr/>
            <p:nvPr/>
          </p:nvSpPr>
          <p:spPr>
            <a:xfrm>
              <a:off x="9627480" y="490572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Oval 42"/>
            <p:cNvSpPr/>
            <p:nvPr/>
          </p:nvSpPr>
          <p:spPr>
            <a:xfrm>
              <a:off x="10152000" y="4892760"/>
              <a:ext cx="397080" cy="398160"/>
            </a:xfrm>
            <a:prstGeom prst="ellipse">
              <a:avLst/>
            </a:prstGeom>
            <a:noFill/>
            <a:ln w="12600">
              <a:solidFill>
                <a:srgbClr val="4862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095880" y="972720"/>
            <a:ext cx="2308320" cy="22957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6095880" y="3548160"/>
            <a:ext cx="230832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62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5813280" y="590400"/>
            <a:ext cx="5438880" cy="722808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20"/>
          <p:cNvSpPr/>
          <p:nvPr/>
        </p:nvSpPr>
        <p:spPr>
          <a:xfrm>
            <a:off x="1101600" y="3255840"/>
            <a:ext cx="329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Rectangle 21"/>
          <p:cNvSpPr/>
          <p:nvPr/>
        </p:nvSpPr>
        <p:spPr>
          <a:xfrm>
            <a:off x="1101600" y="4164120"/>
            <a:ext cx="32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1101600" y="185580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Ip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 23"/>
          <p:cNvSpPr/>
          <p:nvPr/>
        </p:nvSpPr>
        <p:spPr>
          <a:xfrm>
            <a:off x="1101600" y="2384280"/>
            <a:ext cx="4221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layfair Display"/>
                <a:ea typeface="Roboto Slab"/>
              </a:rPr>
              <a:t>Showcas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1101600" y="5153040"/>
            <a:ext cx="3557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Playfair Display"/>
              </a:rPr>
              <a:t>Anyone can get dressed up and glamorous, but it is how people dress in their days off that are the most intrigu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a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hart 1" descr=""/>
          <p:cNvPicPr/>
          <p:nvPr/>
        </p:nvPicPr>
        <p:blipFill>
          <a:blip r:embed="rId1"/>
          <a:stretch/>
        </p:blipFill>
        <p:spPr>
          <a:xfrm>
            <a:off x="1209600" y="719280"/>
            <a:ext cx="5491080" cy="5744880"/>
          </a:xfrm>
          <a:prstGeom prst="rect">
            <a:avLst/>
          </a:prstGeom>
          <a:ln w="0">
            <a:noFill/>
          </a:ln>
        </p:spPr>
      </p:pic>
      <p:sp>
        <p:nvSpPr>
          <p:cNvPr id="411" name="Rectangle 2"/>
          <p:cNvSpPr/>
          <p:nvPr/>
        </p:nvSpPr>
        <p:spPr>
          <a:xfrm>
            <a:off x="7288200" y="3963960"/>
            <a:ext cx="333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7288200" y="2381400"/>
            <a:ext cx="4029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Sa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Rectangle 4"/>
          <p:cNvSpPr/>
          <p:nvPr/>
        </p:nvSpPr>
        <p:spPr>
          <a:xfrm>
            <a:off x="7288200" y="2857680"/>
            <a:ext cx="36147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Produ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7288200" y="4970520"/>
            <a:ext cx="243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Lorem Ipsum is simply d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my text of the printing and 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pesetting Ipsum has be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62626"/>
                </a:solidFill>
                <a:latin typeface="Lato"/>
                <a:ea typeface="Lato"/>
              </a:rPr>
              <a:t>n the industry's standard dumm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c4a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15"/>
          <p:cNvSpPr/>
          <p:nvPr/>
        </p:nvSpPr>
        <p:spPr>
          <a:xfrm>
            <a:off x="3832200" y="0"/>
            <a:ext cx="8359920" cy="6367320"/>
          </a:xfrm>
          <a:prstGeom prst="rect">
            <a:avLst/>
          </a:prstGeom>
          <a:solidFill>
            <a:srgbClr val="d9b4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7823160" y="5154480"/>
            <a:ext cx="284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4040"/>
                </a:solidFill>
                <a:latin typeface="Lato"/>
                <a:ea typeface="Lato"/>
              </a:rPr>
              <a:t>Lorem Ipsum is simply dummy text of the printing and typesetting industry. Lorem Ipsum has been th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14"/>
          <p:cNvSpPr/>
          <p:nvPr/>
        </p:nvSpPr>
        <p:spPr>
          <a:xfrm>
            <a:off x="6095880" y="3191040"/>
            <a:ext cx="60962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62626"/>
                </a:solidFill>
                <a:latin typeface="Playfair Display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1220760" y="579240"/>
            <a:ext cx="417672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be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447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4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455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4T18:22:28Z</dcterms:created>
  <dc:creator>one studio</dc:creator>
  <dc:description/>
  <dc:language>en-US</dc:language>
  <cp:lastModifiedBy>Harist</cp:lastModifiedBy>
  <dcterms:modified xsi:type="dcterms:W3CDTF">2022-12-30T09:50:27Z</dcterms:modified>
  <cp:revision>42</cp:revision>
  <dc:subject/>
  <dc:title>PowerPoint Presentation</dc:title>
</cp:coreProperties>
</file>